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7F5-2C4F-4C67-80CD-54A069E8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D0C-9651-49B6-9C69-0139801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89B-66A8-4936-B6D0-337E7057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87F-958F-4A4E-9202-0945DE75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4CE-4391-4BAD-A17D-734BDD3F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ED3-B5B6-4A04-B803-AFDF1DE6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CBD-3A06-4838-911E-DCD021D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5FB-668B-41CE-9405-0B4EE386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295-3718-4543-A447-C880BE6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CE2-A305-4467-9627-B10CEB1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EB8-A2E1-47B7-830D-BB17031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44E-BF2A-4F4C-88D5-8B1BD90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514-B79D-4EC1-99F0-3AD1BDC8A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149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Управленческие решения в менеджмент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181400" y="0"/>
            <a:ext cx="4962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яснения (этапы рационального ре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ка проблемы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необходимость собрать и проанализировать требующуюся внешнюю и внутренню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граничение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определяемые высшим руководящим звеном, сужения полномочий всех членов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итерии принятия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стандарты, которым оцениваются альтернативные варианты выб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яснения (этапы рационального ре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ценка альтернатив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определение достоинств и недостатков каждого из решений, а также возможны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ор альтернатив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тщательное определения проблемы, после которого руководитель выбирает альтернативу с наиболее благоприятными последст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4643280" y="1628640"/>
            <a:ext cx="4032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методов принятия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Скругленный прямоугольник 6"/>
          <p:cNvGrpSpPr/>
          <p:nvPr/>
        </p:nvGrpSpPr>
        <p:grpSpPr>
          <a:xfrm>
            <a:off x="1122480" y="1695600"/>
            <a:ext cx="3041640" cy="682560"/>
            <a:chOff x="1122480" y="1695600"/>
            <a:chExt cx="3041640" cy="68256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22480" y="1695600"/>
              <a:ext cx="30416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174680" y="1746360"/>
              <a:ext cx="2936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ализованные (математические)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6" name="Прямоугольник 8"/>
          <p:cNvGrpSpPr/>
          <p:nvPr/>
        </p:nvGrpSpPr>
        <p:grpSpPr>
          <a:xfrm>
            <a:off x="1554120" y="2693880"/>
            <a:ext cx="2395440" cy="470160"/>
            <a:chOff x="1554120" y="2693880"/>
            <a:chExt cx="2395440" cy="470160"/>
          </a:xfrm>
        </p:grpSpPr>
        <p:pic>
          <p:nvPicPr>
            <p:cNvPr id="107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54120" y="2693880"/>
              <a:ext cx="23954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571760" y="2714760"/>
              <a:ext cx="235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налитические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9" name="Прямоугольник 9"/>
          <p:cNvGrpSpPr/>
          <p:nvPr/>
        </p:nvGrpSpPr>
        <p:grpSpPr>
          <a:xfrm>
            <a:off x="1554120" y="3554280"/>
            <a:ext cx="2395440" cy="463680"/>
            <a:chOff x="1554120" y="3554280"/>
            <a:chExt cx="2395440" cy="463680"/>
          </a:xfrm>
        </p:grpSpPr>
        <p:pic>
          <p:nvPicPr>
            <p:cNvPr id="110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54120" y="3554280"/>
              <a:ext cx="23954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71760" y="357192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атистические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2" name="Прямоугольник 10"/>
          <p:cNvGrpSpPr/>
          <p:nvPr/>
        </p:nvGrpSpPr>
        <p:grpSpPr>
          <a:xfrm>
            <a:off x="1554120" y="4413240"/>
            <a:ext cx="2395440" cy="536760"/>
            <a:chOff x="1554120" y="4413240"/>
            <a:chExt cx="2395440" cy="536760"/>
          </a:xfrm>
        </p:grpSpPr>
        <p:pic>
          <p:nvPicPr>
            <p:cNvPr id="113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1554120" y="4413240"/>
              <a:ext cx="23954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71760" y="4429080"/>
              <a:ext cx="2357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матического программирова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5" name="Прямоугольник 63"/>
          <p:cNvGrpSpPr/>
          <p:nvPr/>
        </p:nvGrpSpPr>
        <p:grpSpPr>
          <a:xfrm>
            <a:off x="1554120" y="5267160"/>
            <a:ext cx="2395440" cy="468360"/>
            <a:chOff x="1554120" y="5267160"/>
            <a:chExt cx="2395440" cy="468360"/>
          </a:xfrm>
        </p:grpSpPr>
        <p:pic>
          <p:nvPicPr>
            <p:cNvPr id="116" name="Прямоугольник 63" descr=""/>
            <p:cNvPicPr/>
            <p:nvPr/>
          </p:nvPicPr>
          <p:blipFill>
            <a:blip r:embed="rId7"/>
            <a:stretch/>
          </p:blipFill>
          <p:spPr>
            <a:xfrm>
              <a:off x="1554120" y="5267160"/>
              <a:ext cx="23954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71760" y="528624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оретико-игровые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8" name="Скругленный прямоугольник 64"/>
          <p:cNvGrpSpPr/>
          <p:nvPr/>
        </p:nvGrpSpPr>
        <p:grpSpPr>
          <a:xfrm>
            <a:off x="5194440" y="1695600"/>
            <a:ext cx="3181320" cy="682560"/>
            <a:chOff x="5194440" y="1695600"/>
            <a:chExt cx="3181320" cy="682560"/>
          </a:xfrm>
        </p:grpSpPr>
        <p:pic>
          <p:nvPicPr>
            <p:cNvPr id="119" name="Скругленный прямоугольник 64" descr=""/>
            <p:cNvPicPr/>
            <p:nvPr/>
          </p:nvPicPr>
          <p:blipFill>
            <a:blip r:embed="rId8"/>
            <a:stretch/>
          </p:blipFill>
          <p:spPr>
            <a:xfrm>
              <a:off x="5194440" y="1695600"/>
              <a:ext cx="3181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246640" y="1746360"/>
              <a:ext cx="3079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формализованные   (эвристические)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1" name="Прямоугольник 65"/>
          <p:cNvGrpSpPr/>
          <p:nvPr/>
        </p:nvGrpSpPr>
        <p:grpSpPr>
          <a:xfrm>
            <a:off x="5699160" y="5267160"/>
            <a:ext cx="2463840" cy="536760"/>
            <a:chOff x="5699160" y="5267160"/>
            <a:chExt cx="2463840" cy="536760"/>
          </a:xfrm>
        </p:grpSpPr>
        <p:pic>
          <p:nvPicPr>
            <p:cNvPr id="122" name="Прямоугольник 65" descr=""/>
            <p:cNvPicPr/>
            <p:nvPr/>
          </p:nvPicPr>
          <p:blipFill>
            <a:blip r:embed="rId9"/>
            <a:stretch/>
          </p:blipFill>
          <p:spPr>
            <a:xfrm>
              <a:off x="5699160" y="5267160"/>
              <a:ext cx="24638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715000" y="5286240"/>
              <a:ext cx="2428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дерева решений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4" name="Прямоугольник 66"/>
          <p:cNvGrpSpPr/>
          <p:nvPr/>
        </p:nvGrpSpPr>
        <p:grpSpPr>
          <a:xfrm>
            <a:off x="5699160" y="4413240"/>
            <a:ext cx="2390760" cy="463680"/>
            <a:chOff x="5699160" y="4413240"/>
            <a:chExt cx="2390760" cy="463680"/>
          </a:xfrm>
        </p:grpSpPr>
        <p:pic>
          <p:nvPicPr>
            <p:cNvPr id="125" name="Прямоугольник 66" descr=""/>
            <p:cNvPicPr/>
            <p:nvPr/>
          </p:nvPicPr>
          <p:blipFill>
            <a:blip r:embed="rId10"/>
            <a:stretch/>
          </p:blipFill>
          <p:spPr>
            <a:xfrm>
              <a:off x="5699160" y="4413240"/>
              <a:ext cx="2390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15000" y="442908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сценариев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7" name="Прямоугольник 67"/>
          <p:cNvGrpSpPr/>
          <p:nvPr/>
        </p:nvGrpSpPr>
        <p:grpSpPr>
          <a:xfrm>
            <a:off x="5699160" y="3554280"/>
            <a:ext cx="2390760" cy="463680"/>
            <a:chOff x="5699160" y="3554280"/>
            <a:chExt cx="2390760" cy="463680"/>
          </a:xfrm>
        </p:grpSpPr>
        <p:pic>
          <p:nvPicPr>
            <p:cNvPr id="128" name="Прямоугольник 67" descr=""/>
            <p:cNvPicPr/>
            <p:nvPr/>
          </p:nvPicPr>
          <p:blipFill>
            <a:blip r:embed="rId11"/>
            <a:stretch/>
          </p:blipFill>
          <p:spPr>
            <a:xfrm>
              <a:off x="5699160" y="3554280"/>
              <a:ext cx="2390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715000" y="357192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Дельф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0" name="Прямоугольник 68"/>
          <p:cNvGrpSpPr/>
          <p:nvPr/>
        </p:nvGrpSpPr>
        <p:grpSpPr>
          <a:xfrm>
            <a:off x="5699160" y="2693880"/>
            <a:ext cx="2390760" cy="470160"/>
            <a:chOff x="5699160" y="2693880"/>
            <a:chExt cx="2390760" cy="470160"/>
          </a:xfrm>
        </p:grpSpPr>
        <p:pic>
          <p:nvPicPr>
            <p:cNvPr id="131" name="Прямоугольник 68" descr=""/>
            <p:cNvPicPr/>
            <p:nvPr/>
          </p:nvPicPr>
          <p:blipFill>
            <a:blip r:embed="rId12"/>
            <a:stretch/>
          </p:blipFill>
          <p:spPr>
            <a:xfrm>
              <a:off x="5699160" y="2693880"/>
              <a:ext cx="23907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5000" y="2714760"/>
              <a:ext cx="235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зговой штурм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33" name="Shape 70"/>
          <p:cNvCxnSpPr/>
          <p:nvPr/>
        </p:nvCxnSpPr>
        <p:spPr>
          <a:xfrm flipV="1" rot="10800000">
            <a:off x="713520" y="2034720"/>
            <a:ext cx="429480" cy="3394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Прямая со стрелкой 72"/>
          <p:cNvCxnSpPr/>
          <p:nvPr/>
        </p:nvCxnSpPr>
        <p:spPr>
          <a:xfrm>
            <a:off x="713880" y="28576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73"/>
          <p:cNvCxnSpPr/>
          <p:nvPr/>
        </p:nvCxnSpPr>
        <p:spPr>
          <a:xfrm>
            <a:off x="4928760" y="378576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74"/>
          <p:cNvCxnSpPr/>
          <p:nvPr/>
        </p:nvCxnSpPr>
        <p:spPr>
          <a:xfrm>
            <a:off x="4928760" y="28576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75"/>
          <p:cNvCxnSpPr/>
          <p:nvPr/>
        </p:nvCxnSpPr>
        <p:spPr>
          <a:xfrm>
            <a:off x="713880" y="378576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76"/>
          <p:cNvCxnSpPr/>
          <p:nvPr/>
        </p:nvCxnSpPr>
        <p:spPr>
          <a:xfrm>
            <a:off x="713880" y="4572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77"/>
          <p:cNvCxnSpPr/>
          <p:nvPr/>
        </p:nvCxnSpPr>
        <p:spPr>
          <a:xfrm>
            <a:off x="4928760" y="464292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78"/>
          <p:cNvCxnSpPr/>
          <p:nvPr/>
        </p:nvCxnSpPr>
        <p:spPr>
          <a:xfrm>
            <a:off x="4928760" y="55008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80"/>
          <p:cNvCxnSpPr/>
          <p:nvPr/>
        </p:nvCxnSpPr>
        <p:spPr>
          <a:xfrm>
            <a:off x="713880" y="542880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hape 82"/>
          <p:cNvCxnSpPr/>
          <p:nvPr/>
        </p:nvCxnSpPr>
        <p:spPr>
          <a:xfrm flipV="1" rot="10800000">
            <a:off x="4928400" y="2034000"/>
            <a:ext cx="286560" cy="346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и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Аналитические 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вероят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арковски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ассов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динамики ср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643280" y="1428840"/>
            <a:ext cx="3948120" cy="49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Последовательный анали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нятие решения на основе ряда гипоте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Метод статистических испыт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од операций моделируется на ЭВМ, со всеми присущими операциями случайностям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357800" y="1905120"/>
            <a:ext cx="464328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ое 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ое программ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Лине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именяется, когда условия операции описываются системой линейных уравнений или неравен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Нелине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обор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Динамическ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лужит для выбора наилучшего плана выполнения многоэтапных  действ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оретико-игров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ко-игровы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Теория иг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меняется, когда проблема вызвана злонамеренными действиями конфликтующей ст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Теория стратегических решен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меняется, когда проблема вызвана объективными фактор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85726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мозгового штур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азработка новых идей и решений в трудных, тупик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учение как можно большего количества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0" t="25894" r="0" b="25894"/>
          <a:stretch/>
        </p:blipFill>
        <p:spPr>
          <a:xfrm>
            <a:off x="3357720" y="2714760"/>
            <a:ext cx="50004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 Дель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2bfc5"/>
                </a:solidFill>
                <a:latin typeface="Arial"/>
              </a:rPr>
              <a:t>Метод  Дельф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то многотуровая процедура анкет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анкетирова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обл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вариантов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бщение оцен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учение копии сводного доку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ижения согласованного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14200" y="1071360"/>
            <a:ext cx="87156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сценарие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пределяет вероятные тенденции развития событий и возможные последствия принимаемых решений, с целью выбора наиболее подходящей альтернативы у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642960" y="214200"/>
            <a:ext cx="56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Garamond Premr Pro Smbd"/>
              </a:rPr>
              <a:t>Метод сценариев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2" descr="E:\Картинки\Изображения\Коллекция картинок (Microsoft)\j0408928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2000160" y="2857680"/>
            <a:ext cx="47674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выбор альтерна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ятие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интегральная часть управления организацией люб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ситуация, когда поставленные цели недостиг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Ключевые пон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дерева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2640" y="2928600"/>
            <a:ext cx="7715160" cy="3614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071360"/>
            <a:ext cx="81435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дерева реше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хематичное изображения процесса принятия последовательных решений и состоит из ветвей – вариантов решения и узлов – соответствующих им ис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5"/>
          <p:cNvSpPr/>
          <p:nvPr/>
        </p:nvSpPr>
        <p:spPr>
          <a:xfrm>
            <a:off x="571680" y="442908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6"/>
          <p:cNvSpPr/>
          <p:nvPr/>
        </p:nvSpPr>
        <p:spPr>
          <a:xfrm>
            <a:off x="2428920" y="3357720"/>
            <a:ext cx="78588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Овал 7"/>
          <p:cNvSpPr/>
          <p:nvPr/>
        </p:nvSpPr>
        <p:spPr>
          <a:xfrm>
            <a:off x="2286000" y="435780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Овал 8"/>
          <p:cNvSpPr/>
          <p:nvPr/>
        </p:nvSpPr>
        <p:spPr>
          <a:xfrm>
            <a:off x="2214720" y="550080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Овал 9"/>
          <p:cNvSpPr/>
          <p:nvPr/>
        </p:nvSpPr>
        <p:spPr>
          <a:xfrm>
            <a:off x="3643200" y="428616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Овал 10"/>
          <p:cNvSpPr/>
          <p:nvPr/>
        </p:nvSpPr>
        <p:spPr>
          <a:xfrm>
            <a:off x="5357880" y="26431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Овал 11"/>
          <p:cNvSpPr/>
          <p:nvPr/>
        </p:nvSpPr>
        <p:spPr>
          <a:xfrm>
            <a:off x="3786120" y="550080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Овал 12"/>
          <p:cNvSpPr/>
          <p:nvPr/>
        </p:nvSpPr>
        <p:spPr>
          <a:xfrm>
            <a:off x="3857760" y="321480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 flipV="1">
            <a:off x="1285920" y="3785760"/>
            <a:ext cx="1143000" cy="785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Прямая соединительная линия 16"/>
          <p:cNvSpPr/>
          <p:nvPr/>
        </p:nvSpPr>
        <p:spPr>
          <a:xfrm flipV="1">
            <a:off x="1357200" y="4714920"/>
            <a:ext cx="928800" cy="10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Прямая соединительная линия 18"/>
          <p:cNvSpPr/>
          <p:nvPr/>
        </p:nvSpPr>
        <p:spPr>
          <a:xfrm>
            <a:off x="1241280" y="5100480"/>
            <a:ext cx="104472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Прямая соединительная линия 20"/>
          <p:cNvSpPr/>
          <p:nvPr/>
        </p:nvSpPr>
        <p:spPr>
          <a:xfrm flipV="1">
            <a:off x="3071880" y="4714560"/>
            <a:ext cx="571320" cy="36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Прямая соединительная линия 22"/>
          <p:cNvSpPr/>
          <p:nvPr/>
        </p:nvSpPr>
        <p:spPr>
          <a:xfrm flipV="1">
            <a:off x="2956680" y="3785760"/>
            <a:ext cx="97164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Прямая соединительная линия 24"/>
          <p:cNvSpPr/>
          <p:nvPr/>
        </p:nvSpPr>
        <p:spPr>
          <a:xfrm>
            <a:off x="2956680" y="5029200"/>
            <a:ext cx="90036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Овал 25"/>
          <p:cNvSpPr/>
          <p:nvPr/>
        </p:nvSpPr>
        <p:spPr>
          <a:xfrm>
            <a:off x="5715000" y="49291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Овал 26"/>
          <p:cNvSpPr/>
          <p:nvPr/>
        </p:nvSpPr>
        <p:spPr>
          <a:xfrm>
            <a:off x="5500800" y="371484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Прямая соединительная линия 28"/>
          <p:cNvSpPr/>
          <p:nvPr/>
        </p:nvSpPr>
        <p:spPr>
          <a:xfrm flipV="1">
            <a:off x="4643280" y="3214440"/>
            <a:ext cx="714600" cy="393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Прямая соединительная линия 30"/>
          <p:cNvSpPr/>
          <p:nvPr/>
        </p:nvSpPr>
        <p:spPr>
          <a:xfrm>
            <a:off x="4528440" y="3886200"/>
            <a:ext cx="971640" cy="257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Прямая соединительная линия 32"/>
          <p:cNvSpPr/>
          <p:nvPr/>
        </p:nvSpPr>
        <p:spPr>
          <a:xfrm>
            <a:off x="4357080" y="4000680"/>
            <a:ext cx="1393560" cy="121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Овал 36"/>
          <p:cNvSpPr/>
          <p:nvPr/>
        </p:nvSpPr>
        <p:spPr>
          <a:xfrm>
            <a:off x="7286760" y="585792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Овал 37"/>
          <p:cNvSpPr/>
          <p:nvPr/>
        </p:nvSpPr>
        <p:spPr>
          <a:xfrm>
            <a:off x="7500960" y="47149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Овал 38"/>
          <p:cNvSpPr/>
          <p:nvPr/>
        </p:nvSpPr>
        <p:spPr>
          <a:xfrm>
            <a:off x="7500960" y="35719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Прямая соединительная линия 40"/>
          <p:cNvSpPr/>
          <p:nvPr/>
        </p:nvSpPr>
        <p:spPr>
          <a:xfrm flipV="1">
            <a:off x="6386400" y="4142880"/>
            <a:ext cx="1185840" cy="900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Прямая соединительная линия 42"/>
          <p:cNvSpPr/>
          <p:nvPr/>
        </p:nvSpPr>
        <p:spPr>
          <a:xfrm flipV="1">
            <a:off x="6500880" y="5108400"/>
            <a:ext cx="100008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Прямая соединительная линия 44"/>
          <p:cNvSpPr/>
          <p:nvPr/>
        </p:nvSpPr>
        <p:spPr>
          <a:xfrm>
            <a:off x="6286680" y="5572080"/>
            <a:ext cx="1000080" cy="608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Виды ре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Организационное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программ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езапрограмм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Компроми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Интуитивн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Решение основанное на су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Рациональн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400506"/>
          <p:cNvPicPr/>
          <p:nvPr/>
        </p:nvPicPr>
        <p:blipFill>
          <a:blip r:embed="rId1"/>
          <a:stretch/>
        </p:blipFill>
        <p:spPr>
          <a:xfrm>
            <a:off x="5867280" y="1125360"/>
            <a:ext cx="29289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яснения (виды решен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ганизационное решени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выбор, который должен сделать руководитель, чтобы выполнить обязанности, обусловленные занимаемой им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ромиссы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решение, которое с учетом все факторов, представляется наиболее удачливым с точки зрения конеч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яснения (виды решен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туитивное решение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выбор, сделанный только на основе ощущения  того, что он прави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шение основанное на суждении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выбор обусловленный знаниями или накопленным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6160" y="1785960"/>
            <a:ext cx="452124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139680" y="1066680"/>
            <a:ext cx="8718480" cy="57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сс принятия и реализации управленчески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бования, предъявляемые к управленческим решен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ясной ц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обоснован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адресата и сроки испол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ать непротиворечивым и правомоч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эффективным и конкрет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своевремен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обладать полнотой, краткостью и четк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хема процесса принятия  управленчески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Прямоугольник 3"/>
          <p:cNvGrpSpPr/>
          <p:nvPr/>
        </p:nvGrpSpPr>
        <p:grpSpPr>
          <a:xfrm>
            <a:off x="3340080" y="1695600"/>
            <a:ext cx="2395440" cy="682560"/>
            <a:chOff x="3340080" y="1695600"/>
            <a:chExt cx="2395440" cy="68256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340080" y="1695600"/>
              <a:ext cx="239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7720" y="171468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Анализ ситуации, выявление проблем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5" name="Прямоугольник 4"/>
          <p:cNvGrpSpPr/>
          <p:nvPr/>
        </p:nvGrpSpPr>
        <p:grpSpPr>
          <a:xfrm>
            <a:off x="5840280" y="2554200"/>
            <a:ext cx="2395800" cy="676440"/>
            <a:chOff x="5840280" y="2554200"/>
            <a:chExt cx="2395800" cy="676440"/>
          </a:xfrm>
        </p:grpSpPr>
        <p:pic>
          <p:nvPicPr>
            <p:cNvPr id="6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840280" y="2554200"/>
              <a:ext cx="2395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857920" y="257184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. Оценка проблем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8" name="Прямоугольник 5"/>
          <p:cNvGrpSpPr/>
          <p:nvPr/>
        </p:nvGrpSpPr>
        <p:grpSpPr>
          <a:xfrm>
            <a:off x="5840280" y="3554280"/>
            <a:ext cx="2395800" cy="676440"/>
            <a:chOff x="5840280" y="3554280"/>
            <a:chExt cx="2395800" cy="67644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840280" y="3554280"/>
              <a:ext cx="2395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57920" y="35719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 Определение критериев выбора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1" name="Прямоугольник 6"/>
          <p:cNvGrpSpPr/>
          <p:nvPr/>
        </p:nvGrpSpPr>
        <p:grpSpPr>
          <a:xfrm>
            <a:off x="5840280" y="4552920"/>
            <a:ext cx="2395800" cy="677880"/>
            <a:chOff x="5840280" y="4552920"/>
            <a:chExt cx="2395800" cy="677880"/>
          </a:xfrm>
        </p:grpSpPr>
        <p:pic>
          <p:nvPicPr>
            <p:cNvPr id="7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840280" y="4552920"/>
              <a:ext cx="2395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857920" y="457200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. Разработка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4" name="Прямоугольник 7"/>
          <p:cNvGrpSpPr/>
          <p:nvPr/>
        </p:nvGrpSpPr>
        <p:grpSpPr>
          <a:xfrm>
            <a:off x="3193920" y="5267160"/>
            <a:ext cx="2395800" cy="682920"/>
            <a:chOff x="3193920" y="5267160"/>
            <a:chExt cx="2395800" cy="682920"/>
          </a:xfrm>
        </p:grpSpPr>
        <p:pic>
          <p:nvPicPr>
            <p:cNvPr id="7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193920" y="5267160"/>
              <a:ext cx="2395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28624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. Выбор наилучшего результата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7" name="Прямоугольник 8"/>
          <p:cNvGrpSpPr/>
          <p:nvPr/>
        </p:nvGrpSpPr>
        <p:grpSpPr>
          <a:xfrm>
            <a:off x="622440" y="4479840"/>
            <a:ext cx="2395440" cy="682560"/>
            <a:chOff x="622440" y="4479840"/>
            <a:chExt cx="2395440" cy="682560"/>
          </a:xfrm>
        </p:grpSpPr>
        <p:pic>
          <p:nvPicPr>
            <p:cNvPr id="78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22440" y="4479840"/>
              <a:ext cx="239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2960" y="45007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. Согласование и принятие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0" name="Прямоугольник 9"/>
          <p:cNvGrpSpPr/>
          <p:nvPr/>
        </p:nvGrpSpPr>
        <p:grpSpPr>
          <a:xfrm>
            <a:off x="622440" y="3554280"/>
            <a:ext cx="2395440" cy="676440"/>
            <a:chOff x="622440" y="3554280"/>
            <a:chExt cx="2395440" cy="676440"/>
          </a:xfrm>
        </p:grpSpPr>
        <p:pic>
          <p:nvPicPr>
            <p:cNvPr id="81" name="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622440" y="3554280"/>
              <a:ext cx="2395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42960" y="35719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. Организация выполнения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3" name="Прямоугольник 10"/>
          <p:cNvGrpSpPr/>
          <p:nvPr/>
        </p:nvGrpSpPr>
        <p:grpSpPr>
          <a:xfrm>
            <a:off x="622440" y="2627280"/>
            <a:ext cx="2395440" cy="676440"/>
            <a:chOff x="622440" y="2627280"/>
            <a:chExt cx="2395440" cy="676440"/>
          </a:xfrm>
        </p:grpSpPr>
        <p:pic>
          <p:nvPicPr>
            <p:cNvPr id="84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22440" y="2627280"/>
              <a:ext cx="2395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42960" y="26431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. Контроль и оценка результатов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86" name="Shape 45"/>
          <p:cNvCxnSpPr/>
          <p:nvPr/>
        </p:nvCxnSpPr>
        <p:spPr>
          <a:xfrm>
            <a:off x="5714640" y="2034720"/>
            <a:ext cx="1323000" cy="53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47"/>
          <p:cNvCxnSpPr/>
          <p:nvPr/>
        </p:nvCxnSpPr>
        <p:spPr>
          <a:xfrm flipH="1">
            <a:off x="7035480" y="321480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49"/>
          <p:cNvCxnSpPr/>
          <p:nvPr/>
        </p:nvCxnSpPr>
        <p:spPr>
          <a:xfrm flipH="1">
            <a:off x="7035480" y="42163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hape 51"/>
          <p:cNvCxnSpPr/>
          <p:nvPr/>
        </p:nvCxnSpPr>
        <p:spPr>
          <a:xfrm rot="5400000">
            <a:off x="6107040" y="4679280"/>
            <a:ext cx="394560" cy="14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hape 53"/>
          <p:cNvCxnSpPr/>
          <p:nvPr/>
        </p:nvCxnSpPr>
        <p:spPr>
          <a:xfrm rot="10800000">
            <a:off x="1820160" y="5142960"/>
            <a:ext cx="13230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hape 55"/>
          <p:cNvCxnSpPr/>
          <p:nvPr/>
        </p:nvCxnSpPr>
        <p:spPr>
          <a:xfrm flipH="1" flipV="1" rot="5400000">
            <a:off x="2284200" y="1569960"/>
            <a:ext cx="608760" cy="153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9"/>
          <p:cNvCxnSpPr/>
          <p:nvPr/>
        </p:nvCxnSpPr>
        <p:spPr>
          <a:xfrm flipV="1">
            <a:off x="1820880" y="421596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61"/>
          <p:cNvCxnSpPr/>
          <p:nvPr/>
        </p:nvCxnSpPr>
        <p:spPr>
          <a:xfrm flipV="1">
            <a:off x="1820880" y="3285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5:18:01Z</dcterms:created>
  <dc:creator>Customer</dc:creator>
  <dc:description/>
  <dc:language>en-US</dc:language>
  <cp:lastModifiedBy>Пользователь</cp:lastModifiedBy>
  <dcterms:modified xsi:type="dcterms:W3CDTF">2011-12-18T14:51:32Z</dcterms:modified>
  <cp:revision>9</cp:revision>
  <dc:subject/>
  <dc:title>Решения. Виды решений</dc:title>
</cp:coreProperties>
</file>